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3F031-F315-4122-8EDA-690556DE33B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nstantia"/>
              </a:rPr>
              <a:t>Первая медицинская помощь при остановке серд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B7CA9-BBED-4FA0-860C-EEBE760BF54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2e104"/>
                </a:solidFill>
                <a:latin typeface="Times New Roman"/>
              </a:rPr>
              <a:t>Сочетание проведения </a:t>
            </a:r>
            <a:r>
              <a:rPr b="1" i="1" lang="en-US" sz="1200" spc="-1" strike="noStrike">
                <a:solidFill>
                  <a:srgbClr val="f2e104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f2e104"/>
                </a:solidFill>
                <a:latin typeface="Times New Roman"/>
              </a:rPr>
              <a:t>непрямого массажа сердца и искусственной вентиляции легк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ачале делают 4 вдоха, зат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оживляет ОДИН, 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каждые 15 надавливаний на грудину нужно делать 2 нагнетания воздуха в легк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оживляют ДВОЕ, то один делает массаж сердца, а другой – искусственное дыхание: чередуют 5 надавливаний на грудину и одно вдувание в легк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BF237-79C4-4CBC-B3DD-3142B94EFEC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2e104"/>
                </a:solidFill>
                <a:latin typeface="Calibri"/>
              </a:rPr>
              <a:t>Реанимац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то восстановление или временное замещение резко нарушенных или утраченных жизненно важных функций орган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BB04B-77BB-47B5-824E-AFBB7B2F23C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2e104"/>
                </a:solidFill>
                <a:latin typeface="Times New Roman"/>
              </a:rPr>
              <a:t>Клиническая смер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становке сердца обогащённая кислородом кровь больше не попадает в жизненно важные органы и возникает риск необратимого повреждения мозга, которое может наступить уже через 5-7 м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т короткий период, когда процессы, происходящие в организме, еще обратимы, и человеку ещё можно помочь, называется </a:t>
            </a:r>
            <a:r>
              <a:rPr b="0" lang="ru-RU" sz="1200" spc="-1" strike="noStrike">
                <a:solidFill>
                  <a:srgbClr val="f2e104"/>
                </a:solidFill>
                <a:latin typeface="Calibri"/>
              </a:rPr>
              <a:t>клинической смерть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e104"/>
                </a:solidFill>
                <a:latin typeface="Calibri"/>
              </a:rPr>
              <a:t>Клиническая смер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это пограничное состояние перехода от гаснущей жизни к биологической смерти, которое возникает непосредственно после прекращения кровообращения и дых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3EF9C-4724-4452-8733-64A4279959E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2e104"/>
                </a:solidFill>
                <a:latin typeface="Times New Roman"/>
              </a:rPr>
              <a:t>Клиническая смер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Признаки клинической смерт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еря сознан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 дыхан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 реакции зрачков на све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 пульса на сонной арте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е главное при клинической смерти - добиться, чтобы появился пульс (восстановилось сердцебиение и дыхание) и только потом если нужно останавливать кровотечение, накладывать повязки и ши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e104"/>
                </a:solidFill>
                <a:latin typeface="Calibri"/>
              </a:rPr>
              <a:t>При клинической смерти необходимы немедленный массаж сердца и искусственная вентиляция легких (искусственное дыхани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2E5BB-24C8-4A4F-A351-B509127EB80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2e104"/>
                </a:solidFill>
                <a:latin typeface="Times New Roman"/>
              </a:rPr>
              <a:t>Прекардиальный уд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кардиальным ударом можно заставить сердце заработать так же синхронно, как и прежд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удара как можно сильнее сотрясти грудную клетку, что станет толчком к запуску остановившегося сердц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удар нанесен в течение первой минуты после остановки сердца, то вероятность оживления превышает 50%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При нанесении удара в случае наличия пульса на сонной артерии, есть риск спровоцировать остановку сердц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21796-176A-4505-964F-D10CDF5C845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2e104"/>
                </a:solidFill>
                <a:latin typeface="Times New Roman"/>
              </a:rPr>
              <a:t>Непрямой массаж серд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выполнении непрямого массажа сердца следует положить ладонь одной руки в точку проекции сердца на грудине, а сверху на нее другую ладонь, пальцы держать приподнятыми, большие пальцы должны смотреть в разные сторо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5F21F-A52A-4B47-A22B-74C0716D365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2e104"/>
                </a:solidFill>
                <a:latin typeface="Times New Roman"/>
              </a:rPr>
              <a:t>Непрямой массаж серд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и не следует отнимать от груди после каждого надавливания, но перед каждым новым надавливанием необходимо дать грудной клетке подняться в исходное положение, с тем чтобы не препятствовать наполнению полостей сердца кров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7E071-F9E6-481B-B527-7508282DE1A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2e104"/>
                </a:solidFill>
                <a:latin typeface="Times New Roman"/>
              </a:rPr>
              <a:t>Непрямой массаж серд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тм надавливаний на грудную клетку должен соответствовать частоте сердечных сокращений  в состоянии покоя, примерно 1 раз в секунд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нимальное время проведения непрямого массажа сердца даже при отсутствии его эффективности не менее 15-20 мину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0CF5C-C213-4596-88C3-5C02665F376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2e104"/>
                </a:solidFill>
                <a:latin typeface="Times New Roman"/>
              </a:rPr>
              <a:t>Искусственная вентиляция легк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искусственной вентиляции лёгких необходимо обеспечить проходимость дыхательных путей: зажать нос пострадавшего, запрокинуть голову, делать выдох в лёг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0A545-4B76-4B78-868D-4D27497B951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5A17-C565-4B14-AF89-8684F4874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9939-EA10-44AE-99E5-C69209E5D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52F4-1DF5-4D72-832E-EAF552464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FE80-2B33-46B9-B7EC-C5C3178D4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93FCF-FCE9-44FF-BEFA-CE0D251AE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FD813-EC6E-489A-A08B-3375B652B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96611-AB24-4852-B650-A04EDEB97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8BB39-BB0E-4DE4-BCE0-1F51D725F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633D7-866A-4234-800A-FB2A9479B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45ACF-8A6A-46BA-88D2-8FDDA4837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0604E-E3E0-4C59-AAAE-22AF5F8E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EF9B-812C-4C48-99CB-E5D155667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64F43-2091-43AA-8F30-489680FD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31DC3-9B2E-4DD9-BAE4-C625CB29D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5489A-0F16-4C3E-A4F9-3513303A7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7D541-DB7F-4AE3-8369-BFB536906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A43DF-73D0-4C40-94A6-DAC2694C4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B73E46-7B5E-4359-8242-6BCAF6194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A68E99-B642-4202-9979-7114B02AF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253D3F-3FB3-4D53-B346-70228A550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C4B598-B9E9-4CD0-A567-3D244F13F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F1252F-3514-4C68-A94E-AF47CB0C1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4B51-FEEB-44CE-A1F9-D01C41E4E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A988AA-BC9F-4182-ACB4-165CB60FF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7F3CB1-E5D9-4CB3-A4AD-0366BF602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AC45C7-7393-4A24-B591-A4F3B5C1D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FD684E-4399-4FE5-8A4D-70C5BE22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3633E9-A214-4349-B934-EFEF5B624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72E08B-49E6-46C7-A741-88028A872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4ECD28-6785-4329-AD68-E1FC81BE2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6DF0-8CC2-48D7-8DCE-4C4B72835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625A-E29D-43F8-AF2E-D294D49FE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A589-E547-4B61-ADBD-403E7C519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C635-5583-43C0-A113-1B1496D07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F334-2B4F-4B10-BF83-F38EDDFC7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18BD-042B-4BE7-8B84-E5C926F9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86918-A3DF-45FC-B449-CE2BE0A83975}" type="datetime">
              <a:rPr b="0" lang="ru-RU" sz="1200" spc="-1" strike="noStrike">
                <a:solidFill>
                  <a:srgbClr val="fefac9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BC3BE-8DA0-496B-B917-76CAE46B12E0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9C3FD-1AA9-40A5-BC40-69C1DC3E6521}" type="datetime">
              <a:rPr b="0" lang="ru-RU" sz="1200" spc="-1" strike="noStrike">
                <a:solidFill>
                  <a:srgbClr val="fefac9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BA4E7-9EFB-4587-BBEF-AEAFF2B4133C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3AFFC-3C99-4C9C-AA6C-D6D5F84A52B7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dt" idx="9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3CC75-8931-4F7C-B225-FF3035EF2D39}" type="datetime">
              <a:rPr b="0" lang="ru-RU" sz="1200" spc="-1" strike="noStrike">
                <a:solidFill>
                  <a:srgbClr val="fefac9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одзаголовок 2"/>
          <p:cNvSpPr/>
          <p:nvPr/>
        </p:nvSpPr>
        <p:spPr>
          <a:xfrm>
            <a:off x="0" y="1773360"/>
            <a:ext cx="91440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4400" spc="-1" strike="noStrike">
                <a:solidFill>
                  <a:srgbClr val="ffffff"/>
                </a:solidFill>
                <a:latin typeface="Constantia"/>
              </a:rPr>
              <a:t>Первая медицинская помощь при остановке сердц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539640" y="2276640"/>
            <a:ext cx="4248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начале делают 4 вдоха, зате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сли оживляет ОДИН, т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каждые 15 надавливаний на грудину нужно делать 2 нагнетания воздуха в легки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сли оживляют ДВОЕ, то один делает массаж сердца, а другой – искусственное дыхание: чередуют 5 надавливаний на грудину и одно вдувание в легк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3" descr="Последовательность действий при проведении непрямого массажа сердца"/>
          <p:cNvPicPr/>
          <p:nvPr/>
        </p:nvPicPr>
        <p:blipFill>
          <a:blip r:embed="rId1"/>
          <a:stretch/>
        </p:blipFill>
        <p:spPr>
          <a:xfrm>
            <a:off x="4788000" y="1916280"/>
            <a:ext cx="4074840" cy="45036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6"/>
          <p:cNvSpPr/>
          <p:nvPr/>
        </p:nvSpPr>
        <p:spPr>
          <a:xfrm>
            <a:off x="0" y="189000"/>
            <a:ext cx="914400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2e104"/>
                </a:solidFill>
                <a:latin typeface="Times New Roman"/>
              </a:rPr>
              <a:t>Сочетание проведения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2e104"/>
                </a:solidFill>
                <a:latin typeface="Times New Roman"/>
              </a:rPr>
              <a:t>непрямого массажа сердца и искусственной вентиляции легки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33"/>
          <p:cNvSpPr/>
          <p:nvPr/>
        </p:nvSpPr>
        <p:spPr>
          <a:xfrm>
            <a:off x="468360" y="170028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2e104"/>
                </a:solidFill>
                <a:latin typeface="Arial"/>
              </a:rPr>
              <a:t>Реанимация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– это восстановление или временное замещение резко нарушенных или утраченных жизненно важных функций организм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0" y="404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2e104"/>
                </a:solidFill>
                <a:latin typeface="Times New Roman"/>
              </a:rPr>
              <a:t>Клиническая смер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395280" y="1341360"/>
            <a:ext cx="8353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остановке сердца обогащённая кислородом кровь больше не попадает в жизненно важные органы и возникает риск необратимого повреждения мозга, которое может наступить уже через 5-7 ми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от короткий период, когда процессы, происходящие в организме, еще обратимы, и человеку ещё можно помочь, называется </a:t>
            </a:r>
            <a:r>
              <a:rPr b="0" lang="ru-RU" sz="2400" spc="-1" strike="noStrike">
                <a:solidFill>
                  <a:srgbClr val="f2e104"/>
                </a:solidFill>
                <a:latin typeface="Arial"/>
              </a:rPr>
              <a:t>клинической смертью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2e104"/>
                </a:solidFill>
                <a:latin typeface="Arial"/>
              </a:rPr>
              <a:t>Клиническая смерть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- это пограничное состояние перехода от гаснущей жизни к биологической смерти, которое возникает непосредственно после прекращения кровообращения и дых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4"/>
          <p:cNvSpPr/>
          <p:nvPr/>
        </p:nvSpPr>
        <p:spPr>
          <a:xfrm>
            <a:off x="0" y="404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2e104"/>
                </a:solidFill>
                <a:latin typeface="Times New Roman"/>
              </a:rPr>
              <a:t>Клиническая смер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395280" y="1341360"/>
            <a:ext cx="820908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fac9"/>
                </a:solidFill>
                <a:latin typeface="Arial"/>
              </a:rPr>
              <a:t>Признаки клинической смерти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теря сознания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сутствие дыхания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сутствие реакции зрачков на свет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сутствие пульса на сонной артер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амое главное при клинической смерти - добиться, чтобы появился пульс (восстановилось сердцебиение и дыхание) и только потом если нужно останавливать кровотечение, накладывать повязки и ши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2e104"/>
                </a:solidFill>
                <a:latin typeface="Arial"/>
              </a:rPr>
              <a:t>При клинической смерти необходимы немедленный массаж сердца и искусственная вентиляция легких (искусственное дыхание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4"/>
          <p:cNvSpPr/>
          <p:nvPr/>
        </p:nvSpPr>
        <p:spPr>
          <a:xfrm>
            <a:off x="324000" y="981000"/>
            <a:ext cx="33112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кардиальным ударом можно заставить сердце заработать так же синхронно, как и прежд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ель удара как можно сильнее сотрясти грудную клетку, что станет толчком к запуску остановившегося сердц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ли удар нанесен в течение первой минуты после остановки сердца, то вероятность оживления превышает 50%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efac9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efac9"/>
                </a:solidFill>
                <a:latin typeface="Arial"/>
              </a:rPr>
              <a:t>При нанесении удара в случае наличия пульса на сонной артерии, есть риск спровоцировать остановку сердца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826920" y="333360"/>
            <a:ext cx="74883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2e104"/>
                </a:solidFill>
                <a:latin typeface="Times New Roman"/>
              </a:rPr>
              <a:t>Прекардиальный уда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11" descr="image_112"/>
          <p:cNvPicPr/>
          <p:nvPr/>
        </p:nvPicPr>
        <p:blipFill>
          <a:blip r:embed="rId1"/>
          <a:stretch/>
        </p:blipFill>
        <p:spPr>
          <a:xfrm>
            <a:off x="3564000" y="1125360"/>
            <a:ext cx="5208480" cy="53280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2"/>
          <p:cNvSpPr/>
          <p:nvPr/>
        </p:nvSpPr>
        <p:spPr>
          <a:xfrm>
            <a:off x="5940360" y="1197000"/>
            <a:ext cx="2590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f6f6f"/>
                </a:solidFill>
                <a:latin typeface="Arial"/>
              </a:rPr>
              <a:t>Прекардиальный удар наносят ребром сжатой в кулак ладони</a:t>
            </a:r>
            <a:r>
              <a:rPr b="0" lang="en-US" sz="1600" spc="-1" strike="noStrike">
                <a:solidFill>
                  <a:srgbClr val="7f6f6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7f6f6f"/>
                </a:solidFill>
                <a:latin typeface="Arial"/>
              </a:rPr>
              <a:t>в точку, расположенную на грудине на 2-3 см выше мечевидного отростк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8" descr="8"/>
          <p:cNvPicPr/>
          <p:nvPr/>
        </p:nvPicPr>
        <p:blipFill>
          <a:blip r:embed="rId1"/>
          <a:stretch/>
        </p:blipFill>
        <p:spPr>
          <a:xfrm>
            <a:off x="3995640" y="2852640"/>
            <a:ext cx="4762440" cy="26766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1" descr="Непрямой массаж сердца 2"/>
          <p:cNvPicPr/>
          <p:nvPr/>
        </p:nvPicPr>
        <p:blipFill>
          <a:blip r:embed="rId2"/>
          <a:stretch/>
        </p:blipFill>
        <p:spPr>
          <a:xfrm>
            <a:off x="468360" y="2852640"/>
            <a:ext cx="3311640" cy="26496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14"/>
          <p:cNvSpPr/>
          <p:nvPr/>
        </p:nvSpPr>
        <p:spPr>
          <a:xfrm>
            <a:off x="430200" y="119700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 выполнении непрямого массажа сердца следует положить ладонь одной руки в точку проекции сердца на грудине, а сверху на нее другую ладонь, пальцы держать приподнятыми, большие пальцы должны смотреть в разные сторо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0" y="333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2e104"/>
                </a:solidFill>
                <a:latin typeface="Times New Roman"/>
              </a:rPr>
              <a:t>Непрямой массаж сердц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468360" y="112536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уки не следует отнимать от груди после каждого надавливания, но перед каждым новым надавливанием необходимо дать грудной клетке подняться в исходное положение, с тем чтобы не препятствовать наполнению полостей сердца кровь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0" y="333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2e104"/>
                </a:solidFill>
                <a:latin typeface="Times New Roman"/>
              </a:rPr>
              <a:t>Непрямой массаж сердц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6" descr="Положение рук при проведении непрямого массажа сердца"/>
          <p:cNvPicPr/>
          <p:nvPr/>
        </p:nvPicPr>
        <p:blipFill>
          <a:blip r:embed="rId1"/>
          <a:srcRect l="6470" t="1710" r="6899" b="5206"/>
          <a:stretch/>
        </p:blipFill>
        <p:spPr>
          <a:xfrm>
            <a:off x="2195640" y="2421000"/>
            <a:ext cx="4824360" cy="388764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5724360" y="1197000"/>
            <a:ext cx="302436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итм надавливаний на грудную клетку должен соответствовать частоте сердечных сокращений  в состоянии покоя, примерно 1 раз в секунд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инимальное время проведения непрямого массажа сердца даже при отсутствии его эффективности не менее 15-20 мину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5" descr="Как следует проводить непрямой массаж сердца"/>
          <p:cNvPicPr/>
          <p:nvPr/>
        </p:nvPicPr>
        <p:blipFill>
          <a:blip r:embed="rId1"/>
          <a:stretch/>
        </p:blipFill>
        <p:spPr>
          <a:xfrm>
            <a:off x="755640" y="1197000"/>
            <a:ext cx="4641840" cy="518472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7"/>
          <p:cNvSpPr/>
          <p:nvPr/>
        </p:nvSpPr>
        <p:spPr>
          <a:xfrm>
            <a:off x="0" y="333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2e104"/>
                </a:solidFill>
                <a:latin typeface="Times New Roman"/>
              </a:rPr>
              <a:t>Непрямой массаж сердц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684360" y="1125360"/>
            <a:ext cx="78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искусственной вентиляции лёгких необходимо обеспечить проходимость дыхательных путей: зажать нос пострадавшего, запрокинуть голову, делать выдох в лёгк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0" y="333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2e104"/>
                </a:solidFill>
                <a:latin typeface="Times New Roman"/>
              </a:rPr>
              <a:t>Искусственная вентиляция легки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13" descr="Последовательность действий при выполнении искусственной вентиляции лёгких"/>
          <p:cNvPicPr/>
          <p:nvPr/>
        </p:nvPicPr>
        <p:blipFill>
          <a:blip r:embed="rId1"/>
          <a:srcRect l="0" t="13833" r="0" b="0"/>
          <a:stretch/>
        </p:blipFill>
        <p:spPr>
          <a:xfrm>
            <a:off x="468360" y="2781360"/>
            <a:ext cx="5538600" cy="35798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5" descr="4"/>
          <p:cNvPicPr/>
          <p:nvPr/>
        </p:nvPicPr>
        <p:blipFill>
          <a:blip r:embed="rId2"/>
          <a:stretch/>
        </p:blipFill>
        <p:spPr>
          <a:xfrm>
            <a:off x="6443640" y="5013360"/>
            <a:ext cx="2087640" cy="13050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16"/>
          <p:cNvSpPr/>
          <p:nvPr/>
        </p:nvSpPr>
        <p:spPr>
          <a:xfrm>
            <a:off x="6372360" y="2637000"/>
            <a:ext cx="21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efac9"/>
                </a:solidFill>
                <a:latin typeface="Arial"/>
              </a:rPr>
              <a:t>Способ «изо рта в рот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17"/>
          <p:cNvSpPr/>
          <p:nvPr/>
        </p:nvSpPr>
        <p:spPr>
          <a:xfrm>
            <a:off x="6372360" y="4724280"/>
            <a:ext cx="21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efac9"/>
                </a:solidFill>
                <a:latin typeface="Arial"/>
              </a:rPr>
              <a:t>Способ «изо рта в нос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20" descr="RotvRot150"/>
          <p:cNvPicPr/>
          <p:nvPr/>
        </p:nvPicPr>
        <p:blipFill>
          <a:blip r:embed="rId3"/>
          <a:stretch/>
        </p:blipFill>
        <p:spPr>
          <a:xfrm>
            <a:off x="6443640" y="2997360"/>
            <a:ext cx="2016000" cy="134460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0T12:13:54Z</dcterms:created>
  <dc:creator>Разумов В.Н.</dc:creator>
  <dc:description/>
  <dc:language>en-US</dc:language>
  <cp:lastModifiedBy>LEGION</cp:lastModifiedBy>
  <dcterms:modified xsi:type="dcterms:W3CDTF">2014-11-06T12:49:12Z</dcterms:modified>
  <cp:revision>58</cp:revision>
  <dc:subject/>
  <dc:title>Остановка сердца</dc:title>
</cp:coreProperties>
</file>